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8879D-967E-4168-96D6-2467C14CF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00350-E0E0-4977-B854-178A301B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C5AC2-1296-445A-B7B6-7B484BF49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34C-A33D-43E3-810E-1F4C4A11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717-D9A2-410F-BF71-8DE48D39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0F27-AEB2-4695-B5AB-7EA6EAF5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DBD92-C0EC-4D3C-B548-46740B51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CE4A-2FCA-44E7-8322-736F0F2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E48A-D58C-4766-B8F4-D406403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0AE9-F0CD-4422-BC3B-713F003C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B01F8-95F0-40A5-A494-7A5A47F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3173-E11B-4095-9390-4B104867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2BDCB-0B55-4A74-808B-F3E9F0AC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C281-EF23-4399-86C6-2D5749CB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9F8D-BF1E-43B1-ABCC-C70AF798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DB0-DF4F-4F5C-BFC8-799D260D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420C-6D63-42F6-B04F-EDA28E5F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9928D-4E7E-4911-AD6A-0FD08C3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CDB86-21E4-48A0-9BB9-9F542E1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5307D-EA0E-4131-A7D0-E7C416B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D5899-7890-4090-8FC1-D2230C83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452B5-C789-4ED8-A5C6-50BD33A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3A20C-44BF-46DE-BFC8-EA5844D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8CE09-1AAE-48ED-9D76-774DBFB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B0D5F-F896-4175-AE01-601872F7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4DCC-88E6-46F8-8398-E9BB5CAC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2D2-FE09-4ABF-B6E6-8581EFF8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E8C95-6714-4253-A1B0-34F74E23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C61F-A82F-4F51-904C-60F3CCD1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890D8-2456-4E98-9094-BC6A050C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4D71F-5CF5-40D0-87AE-1059ECE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6B02-8499-437F-BB2F-2FE43453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6E8F-8ADD-4F88-924B-6C904566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3BD8E-5723-4C06-96DF-A4C6B26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58BA-1E6C-4606-9A59-80F6DD7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0D985-65E2-4B22-8B2F-E21866C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4B81-DAAB-47CB-8FD8-4D663C6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87163-C05C-41A8-B2C7-6748598D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E198-AC2E-4647-8565-36ECFCA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1F1F0-9182-4EAD-886D-9C261F82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0D6F3-562E-4B2E-9D2F-197BBD7C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90FDE-2E75-40BB-9937-1C9139A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8F91C-B8E3-4468-BE36-561C5F1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5449-6EBC-4593-8322-E9898EC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9243A-5BBA-4D38-B484-13C6C2AA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46D6-2E27-4C45-A2F6-98B1895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3BB2C-CA77-4F94-8E0C-FEA1932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674F8-8498-4BF4-A439-7215810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D8484-EEE9-4689-96AC-A1AC5B15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6671-8895-4882-9C54-EDC71A5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1AF86-4E2A-485E-8B9B-8DA8BF0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EE7EE-1FB6-4E5F-A5FB-0DF85368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6D9FC-FCB6-4F22-9517-1D51CE3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91A34-3623-42CF-9382-B32BAA56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E38E5-D930-4F5E-9436-95E3F092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09C79-EF06-49E9-836A-85F188F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D7CE8-C73A-4E26-AB5C-1914EC4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B4AF0-A318-4FB5-803E-34E1957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58053-919C-409D-93D7-184B83E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C23D4-5E05-4B46-A12B-570827AC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34D51-940F-472E-8A37-AEAB03F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EB30B-4C53-42D1-B350-6737EF5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6875F-3455-4C11-8C90-60E03C3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4EFE1-289C-4571-BFF5-6882A5C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BB52A-786C-4321-9A6E-083991A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54726-629B-4B45-A5CB-7127FA04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725C8-0B94-4F36-874B-8BD5180E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48D53-4281-4932-A2E1-2A413808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FA0EB-513D-4370-95BF-817A4F4A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E9DED-6407-42EF-B007-0A41BD0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4FB2A-0F91-47B7-A86E-3E8C888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F5ADC-DEB0-458A-BF12-674D010B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311DB-C2EB-4B77-AF8D-3EB834F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A9D28-F0FD-4991-9768-E1310008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6F68C-822E-47EC-92DA-3F3DAE8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7FE01-2762-448F-A280-DE68312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830F8-8594-4444-AEA5-D41C240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24281-2A19-41D7-993D-C10A9556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E15AC-24C5-4220-A3CF-A5CC2CC0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5003F-DADB-4AB4-B282-3B59D981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B37A9-FF34-45E0-96EA-3FFBF3E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7C629-CF6B-4C01-BA92-5359E62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72385-1D6C-4089-AA6B-72B2A43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86FF5-A9DC-4EEB-B517-B4AD28B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E25AC-8FD7-40DF-917D-B8762731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B2860-2CBC-442A-AEDE-4FC03159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8F5EA-39A5-4C59-8AC8-AFBC02AF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9A7C2-EC33-403B-B3D5-763059A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F5BB3-7E07-4B9D-BF2C-F77FABB3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76C9B-6FC5-49DF-874B-798B5E8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C8A25-A366-4BDB-9752-5FD2B163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07E4D-ECEB-4998-8BF9-5E3EAFC4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6B81-68F8-45FB-87DD-30D87F5C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C1F7C-D70D-4C6F-A1DE-ECDD66DF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C9630-27BC-4BA0-B1A4-25EDFBD2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075BD-DDF4-4D9E-902C-02BA8A2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C421A-8DEE-4430-B131-2F785B53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0B254-8249-4CEA-82A3-ED0BF57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58532-5981-47FD-8981-9B65B4E3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8C0D8-8A05-4F05-BA13-2C22361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9DB77-E720-45DA-ACE9-2EAD985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4ABEB-C296-477C-A3A4-B21E0FE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739F2-6E56-4BBF-8F3A-662619D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5645-42E1-4387-8773-1A59E2C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25FA7-685E-4868-9D11-B756A325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608AD-A2BE-4E69-AED2-FE0D931B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6CF31-0048-4414-A1D9-48C4E459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18704-8E2A-4984-991E-87AA4A5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2CC0B-F65C-4F15-93A6-369A6A6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2434C-4D59-4BDD-8E23-D30C0EB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04542-7297-4BCB-9A31-09B604C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43557-889C-4C43-95DF-1BA8274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48813-CD60-4AAA-BDFD-35FF606C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560BD-023E-4DDA-8996-4ADC9E1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3E5-010D-4854-99CF-7B526FF4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94374-032B-423A-8BBE-AB861BC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FA04F-328B-494D-B9D3-3D18692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8F301-D7F9-4724-B355-C617080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73D6F-4C0C-4C2A-BD5C-9E04E6DE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73E3F-BE48-4D96-A4B7-6F4FAF3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F2C06-8589-4E1D-A8F2-77C93FFC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16C38-5C68-4FF3-AEE8-FFD218A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FBC9F-879C-4303-ACE4-F9C7444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5ADA9-E5E6-42B0-810E-271CAF6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17CE-4A49-49AF-92C7-5401FA7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1130-3607-4F2E-9BAA-AE1B8DE0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CDF7-3AD8-4D6D-82D6-621DEC1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0ACC-D10A-4064-89A1-F2531F1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C0AC-A7B7-41D7-BBCA-F42EC61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E756-B188-4E75-89EF-3A017891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499-A8A3-4B09-ACBD-A33674A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EF75-2E42-4978-BD9B-E7EB5D93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8601-17F2-41AA-B63A-9A755F3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6CF6-BABF-4B09-94C0-D6BA866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0936-51A1-480C-BD92-18065AB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DD87-65C8-4686-ABA2-E321DC2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D99B-EDB1-4799-B54C-E2577606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645E-EF28-44E4-9906-345FC22A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D798-BF08-4109-B327-7A3470DD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F290-A8B6-4404-8079-9C7EFAC7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2822-A5AB-490D-9826-3B523A5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2FD-3840-4350-8394-B43FB9C5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4187-1D95-4AB7-9B5E-8A02A7CA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8EBC-D228-40FF-9F23-365F21D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E1C5-8772-45AD-A777-8A50901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A50A-FA8B-4CEC-9BAA-B8401F3C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EC99-F2B9-42A3-9389-FBF7D22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66F6-F77D-4695-860A-44E7022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051F-711D-455E-A39F-6A8B213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4476-54A4-4FFD-ABFD-15AF702F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1BB03-9B72-44A6-A84C-91A4E59B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78AE-9CFC-40C0-99A9-D5FEA99E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7D5-2B09-458C-A5D6-5A5A1A4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ABCD-D124-4364-8C74-5CBE535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3F70-5DB2-4DBF-8AEE-578DFC7B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3935-F567-40B4-91D5-3B011FB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6C9F5-ED19-43B4-84CB-7E07CAA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0EEE-2E68-48CA-913D-B5ECB195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A6DA-BF63-4A39-B0E3-A46FDFF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A1E6-AA83-4151-B455-62B8058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82FC-5509-481B-B1BE-CBB93E3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7467-7E1E-4437-BD5B-1AAA593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5098-6A86-4C1E-B6BC-93A8DE49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EC2-9366-4372-A77B-CAC3BDA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ECCC-EC48-4BEC-BAFA-79FA7BAD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4A15-6422-4BBD-8F3F-80B99C20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9B45-634C-406F-8B15-F5B68E1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3AC73-A8CE-4B54-87DC-FD5A009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827D-AB0B-4D20-BB24-7B97858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F18C-BC12-4D5A-BE15-5C73622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5F74-C395-45CB-8EF1-4B37498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27B8-13B7-4CAC-A780-484FEFC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0EE6-B392-4073-A2CC-CB51700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5DB2-54AC-4875-988B-2BA94FF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9C4-5E02-40D5-B122-774694F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39F1-B5CE-4155-94B5-A3F4BA5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5E13-65B4-4086-AFF5-788054E8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298D-264B-46EC-ACE4-70218C89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92D1-CDFE-460D-BB55-CEC972A2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CB70-24F9-409A-B681-394EF0C8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01A2-53C7-4CC1-A203-CC1E2E3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5218-614C-4F74-BA7B-B75648C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959F-F3EC-495B-93E2-5CABE4B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24C2-E11B-42C9-B3A6-733A462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BD60-8A78-4F3D-AC16-6C404B1E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522-9CF7-460A-9468-4708F72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23EB-6657-4A14-8431-22D1993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0028-712F-4BDF-8A83-640E348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CE77-D653-4F26-B380-6CC7D7D6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81470-0209-4037-97D0-63991857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42C4-166E-40D3-B7C1-76A0D171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4173-8119-44CC-8D05-70A0940F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17549-9F40-4F4A-939E-6342D6D4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3D19-6169-4434-AEF6-1B24087F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58A3-482A-4F8D-ACC0-FB6465B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D2F45-8038-4B3D-9964-FB09FC37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2C5-7D11-4949-BDE3-7FB7099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429A-E348-4929-848D-A242211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16886-A49F-4317-A74B-BD0B172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30DD-0E80-4595-A86F-30C1A50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6C2B2-FD2C-421C-87AA-697D655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AFF1B-D92B-4C94-AAFB-087ECBB8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624A-B7F7-49B5-ABB7-69D9E77D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8FB1-6524-4411-966F-7AF5B15F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AAA44-DF1E-438F-A6EA-FD69CB3E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45164-943A-47C1-B942-6BE371FF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CFC6C-849A-44BD-832C-12017F9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CB9A-78EF-4A4E-94C5-613866F27F6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385E0-E322-45FE-A061-47A183D6C91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CD9F2-61E1-4422-9A26-6369997BF07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CABAC-5F9D-4CC3-86F2-2818CB51910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2CBE5-CFF2-4452-A4F8-F3350653502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3DAE5-4702-405B-B570-BEBF8143D92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56C6-B113-47A9-9DE2-ABA7256BA3D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893B1-8C0D-47F4-B16B-0A3B02AB31F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45F6-9A8E-4E03-BC97-7D5C93880AE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B6F9D-1473-4C8B-99D1-750979F57E0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5970F-3719-45AE-BF0C-C5800E776B3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FE48F-BE52-4FEF-8A36-647947E5045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1D0AE-F5B8-4F10-9CEB-5F7472E3A6C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4DE12-03B1-40F6-B99B-39446BB370E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AA8DE-D474-4590-8511-9E8EA016832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92BB3-AB42-47CD-A3F2-B8AE0CF2A6B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C98FF-611A-42D0-AC3D-18552F1B608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E461E-037C-4C50-9BD4-E4936500BF8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D038A-08C4-4CB5-9CD9-F500E594EA2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BE01C-EEC0-4C23-A275-B96AB0B7D65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B97E4-12B9-45D2-8A96-8EAD3AE9528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AFFC6-27C6-44DB-A5AC-1AA72EF0E3B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69548-77B4-4D00-960B-867EAD99477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36908-F052-4F2B-A602-57BB08A72CE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20536-AF0C-4DB2-8A63-B1D66162A29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ED146-F1FD-4EF1-8E32-62DABCAB652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EECDA-24F5-499A-B67B-29744D9BE13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84773-0F7C-4604-AF05-16DAA6AB370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F4C19-5501-4700-8188-781546B72DC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99B0E-1CA3-4573-BC43-E8924F23F45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0705C-BF6F-415B-AC46-19E6E0CEECF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F8F70-C462-40A4-ABE9-B40CB0CD060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AA28A-FAB0-4EA1-AE3E-5D5AB529634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3119F-A58D-4E20-819C-228319388D7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eek Government &amp; Law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Dorians Inva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79440" y="1425600"/>
            <a:ext cx="84405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oth Mycenaean &amp; Minoan civilizations weakened by earthquak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1200 B.C all major Mycenaean cities destroy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migrating tribes (Dorians) arr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advanced – “Greek Dark Age” Dorians appear to have been illiterate. No written record exists between 1150-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til Phoenician traders introduced an alphabet around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79040" y="755280"/>
            <a:ext cx="75834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velopment of City-States 800’s-700’s B.C.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88720" y="1600200"/>
            <a:ext cx="885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750 B.C. the method of governing areas had changed from tribal to more formal governments (city-states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POL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w around fortified hilltop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Greek city-state – the fundamental political unit of ancient Greece after about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Fort, the city and the surrounding lan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hared Features of City-Stat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25360" y="852480"/>
            <a:ext cx="891864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30-500 square mile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mall population (most fewer than 10,00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nly free adult men had all rights of citizenship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omen were considered citizens without political righ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itizens gathered at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GORA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(marketplace) or on a fortified hilltop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CROPOLI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o discuss city governmen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poke the same languag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hared many religious idea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eek myth that all Greeks were descended from Hellen (Hellenistic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estivals such as Olympic Games brought them togeth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were the Greeks Special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22360" y="1425600"/>
            <a:ext cx="8175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 your own A3 poster showing the contributions of Greek Civiliz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s is intended to introduce you to the scope of Greek contributions (in summary - why we are studying Greek civilization) and some key individuals that we will look at in more detail late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ke this as attractive as you can – use bullet points notes, representative diagrams/symbols and pictures from interne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ity- State Political Struc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City-States had different struct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archy, Oligarchy, Tyra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ing the handout create a mind map for each of these within the Greek contex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e Rise of Athen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atch the film and answer the questions to learn about the growth of Athens and the path to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P3 files are loaded on Forum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ocial Structure in Athens under the Arist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5" name="Content Placeholder 3" descr=""/>
          <p:cNvPicPr/>
          <p:nvPr/>
        </p:nvPicPr>
        <p:blipFill>
          <a:blip r:embed="rId1"/>
          <a:stretch/>
        </p:blipFill>
        <p:spPr>
          <a:xfrm>
            <a:off x="237960" y="1420920"/>
            <a:ext cx="8674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26880" y="678960"/>
            <a:ext cx="758376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did democracy develop in Ancient Gree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697120" y="1425600"/>
            <a:ext cx="64468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eisthenes – noble Athenian of the  Alcmaeonid fami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508 B.C. overthrew tyrants and made sweeping changes that turned Athens into a limited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ivided tribes into 10 clans, subdivided into local governments (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DEME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ans each chose 50 members of Council of 500 –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mbers served 1 year – 2 term limit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urors also chosen by lot (from citizen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326880" y="1425600"/>
            <a:ext cx="23702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id Pericles change Athens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pp13-135 of the handou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17520" y="1325520"/>
          <a:ext cx="8478720" cy="5172120"/>
        </p:xfrm>
        <a:graphic>
          <a:graphicData uri="http://schemas.openxmlformats.org/drawingml/2006/table">
            <a:tbl>
              <a:tblPr/>
              <a:tblGrid>
                <a:gridCol w="4238640"/>
                <a:gridCol w="4240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icles’ chan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ow this strengthened democracy and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reased the number of public officials that were paid sal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e pp134-135 of the hand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limits on holding off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roduction of Direct Democ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d and strengthen the Athenian Emp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orification of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1"/>
          <p:cNvSpPr/>
          <p:nvPr/>
        </p:nvSpPr>
        <p:spPr>
          <a:xfrm>
            <a:off x="2357280" y="0"/>
            <a:ext cx="4119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ecks and bal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214200" y="1143000"/>
            <a:ext cx="18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3929040" y="1295280"/>
            <a:ext cx="16430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parlia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5257800" y="14479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3"/>
          <p:cNvSpPr/>
          <p:nvPr/>
        </p:nvSpPr>
        <p:spPr>
          <a:xfrm>
            <a:off x="5715000" y="16765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ree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4"/>
          <p:cNvSpPr/>
          <p:nvPr/>
        </p:nvSpPr>
        <p:spPr>
          <a:xfrm flipV="1" rot="10800000">
            <a:off x="2642760" y="1816200"/>
            <a:ext cx="142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d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1371600" y="2819520"/>
            <a:ext cx="186228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iminal law court, made up of  former arch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1"/>
          <p:cNvSpPr/>
          <p:nvPr/>
        </p:nvSpPr>
        <p:spPr>
          <a:xfrm>
            <a:off x="5029200" y="2286000"/>
            <a:ext cx="144792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2"/>
          <p:cNvSpPr/>
          <p:nvPr/>
        </p:nvSpPr>
        <p:spPr>
          <a:xfrm>
            <a:off x="7391520" y="327672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5000760" y="2971800"/>
            <a:ext cx="18572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hosen by lott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6"/>
          <p:cNvSpPr/>
          <p:nvPr/>
        </p:nvSpPr>
        <p:spPr>
          <a:xfrm flipH="1">
            <a:off x="3276360" y="1752480"/>
            <a:ext cx="857160" cy="2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7"/>
          <p:cNvSpPr/>
          <p:nvPr/>
        </p:nvSpPr>
        <p:spPr>
          <a:xfrm flipH="1">
            <a:off x="2362320" y="22860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8"/>
          <p:cNvSpPr/>
          <p:nvPr/>
        </p:nvSpPr>
        <p:spPr>
          <a:xfrm>
            <a:off x="5181480" y="1905120"/>
            <a:ext cx="32868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9"/>
          <p:cNvSpPr/>
          <p:nvPr/>
        </p:nvSpPr>
        <p:spPr>
          <a:xfrm>
            <a:off x="6477120" y="2743200"/>
            <a:ext cx="1523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24"/>
          <p:cNvSpPr/>
          <p:nvPr/>
        </p:nvSpPr>
        <p:spPr>
          <a:xfrm>
            <a:off x="1066680" y="5029200"/>
            <a:ext cx="695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ericles extend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aying people to attend the Assembly help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think there were time limits on holding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think ‘checks and balances’ ar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ocus Point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velopment of Greek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racteristics of Greek Socie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trasting Athenian and Spartan cultur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 in the Age of Pericl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79040" y="1041120"/>
            <a:ext cx="7583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ominated Athenian public affairs between 461B.C.-429B.C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eat general, orator, and statesm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time of Athens’ greatest power and prospe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mocracy reaches its height (Direct Democracy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ll male citizens could hold office (not just landowner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fficeholders received salar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ost offices were chosen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omen did not hold full citizenshi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thens still supported by slaver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7040" indent="-257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Ostracism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iled for 10 ye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6000 citizens had to vote for ostracis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signed to prevent civil unrest and civil wa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henians feared too much power in the hands of one or a few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o were the founding fathers of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are the characteristics of Athenian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raw a diagram or cartoon to that would help someone understand the main elements of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Law &amp; Government Gloss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ut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tyran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Direct dem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resentative dem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ublic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9" name="Picture 3" descr="C:\Documents and Settings\Evan\My Documents\My Pictures\New Folder\map.jpg"/>
          <p:cNvPicPr/>
          <p:nvPr/>
        </p:nvPicPr>
        <p:blipFill>
          <a:blip r:embed="rId1"/>
          <a:srcRect l="2159" t="2554" r="4931" b="2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Title 1"/>
          <p:cNvSpPr/>
          <p:nvPr/>
        </p:nvSpPr>
        <p:spPr>
          <a:xfrm>
            <a:off x="1386000" y="406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was so spe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bout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7760" y="538200"/>
            <a:ext cx="893124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ino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10600" y="1417680"/>
            <a:ext cx="8487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dence suggests that Minoan civilization was well developed by around 2000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te (soil unsuitable for many crops – trade by sea widely, including with Mycena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s influenced by civilizations of Nile Valley &amp; Fertile Crescent but developed many unique features – frescoes, carved figures in bronze, ivory, gold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 of writing called Linear B (early form of Greek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oan Flee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520560" y="1828800"/>
            <a:ext cx="8107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ycenae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0584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rly Indo-European settlers arrived on the Greek Mainland around 2000 B.C. settled in southern Gree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t fortified cities: Mycenae, Tiryns, Pylos - Mycenae was fortified by a wall more than 20ft thi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lers controlled the surrounding areas.Mycenaean Kings dominated Greece 1600 – 1100 B.C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opted many elements of Minoan cul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ojan War 1200’s B.C. – 10 year war with Independent Anatolian trading city Tro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onstruction of Mycena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282600" y="1425600"/>
            <a:ext cx="85374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4:12:56Z</dcterms:created>
  <dc:creator>IT User</dc:creator>
  <dc:description/>
  <dc:language>en-US</dc:language>
  <cp:lastModifiedBy>IT User</cp:lastModifiedBy>
  <cp:lastPrinted>2010-11-04T17:58:00Z</cp:lastPrinted>
  <dcterms:modified xsi:type="dcterms:W3CDTF">2010-11-08T08:11:00Z</dcterms:modified>
  <cp:revision>29</cp:revision>
  <dc:subject/>
  <dc:title>Greek Government &amp; Law</dc:title>
</cp:coreProperties>
</file>